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5241-6BBE-446C-B67A-230078D03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D952-F750-40BC-931F-C166775286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8606-795B-48FD-B408-EBAD49F6D0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7715-F484-44FA-8B02-C8878A1A32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35A3-D713-40F8-B49A-ECC84E4171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C7CF-68BF-48DE-B632-6D19604544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7599-44B7-46EF-B6E9-6406C1C124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B057-A81C-4C39-8328-14004C6DC5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4949-48C9-47D6-8800-979BFD56FC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A75F-A4E3-4A46-8C16-5D79606221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A3E-18A3-4E51-9790-E41470B1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02B-2E76-44C6-8843-B0F99DE7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2A4-D238-42B2-A5D5-767E9A86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148-6593-4E69-80C5-D215D834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98B6-D51E-408F-A4C3-86E8D37B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8DCA-127C-4722-B419-41BDE259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284E-72D7-41A9-ABA6-2B6ED3D3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A02B-E0C5-47C5-A01C-7998A766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4850-DD91-42BC-9844-D711FFC0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A45E-2B6A-4D0C-BC71-92DF28D0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854D-654D-43BA-98A7-52A8FEC4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BCB-5792-4141-B6CF-7FB1D373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A628-8D71-4F91-ABD4-870BC264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834E-2615-4E92-B923-B8D76E6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7636-C104-43CB-B20B-5ED43CB8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B985-3320-4E01-8861-D58ADD6C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3240-49FE-4456-8B9C-F44A65EA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81C-6F4F-40A6-86D4-70D36EC5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D55-94A8-4D73-94BC-1AAC6589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34D-9D6C-4105-B2AA-0EF1E326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A86-9899-4DD6-BD2D-AFDF7D29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F88-B535-4384-9852-CF1EB54F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23D-DFDA-45B7-9CA4-386B5A5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221-74F0-4A74-B7BB-09765ACA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B6C6-BB6D-473D-9BC0-A8F0F5387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99C5-966B-4DCC-87C6-08050DD831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hyperlink" Target="http://www.nytimes.com/2011/06/03/business/03plate.html" TargetMode="External"/><Relationship Id="rId5" Type="http://schemas.openxmlformats.org/officeDocument/2006/relationships/hyperlink" Target="http://www.nytimes.com/2011/06/03/business/03plate.html" TargetMode="External"/><Relationship Id="rId6" Type="http://schemas.openxmlformats.org/officeDocument/2006/relationships/hyperlink" Target="http://www.nytimes.com/2011/06/03/business/03plate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ric.ed.gov/ERICWebPortal/search/simpleSearch.jsp?_pageLabel=ERICSearchResult&amp;_urlType=action&amp;newSearch=true&amp;ERICExtSearch_SearchType_0=au&amp;ERICExtSearch_SearchValue_0=%22Sampson+Barbara+B.%22" TargetMode="External"/><Relationship Id="rId2" Type="http://schemas.openxmlformats.org/officeDocument/2006/relationships/hyperlink" Target="http://www.eric.ed.gov/ERICWebPortal/search/simpleSearch.jsp?_pageLabel=ERICSearchResult&amp;_urlType=action&amp;newSearch=true&amp;ERICExtSearch_SearchType_0=au&amp;ERICExtSearch_SearchValue_0=%22Pennington+Todd+R.%22" TargetMode="External"/><Relationship Id="rId3" Type="http://schemas.openxmlformats.org/officeDocument/2006/relationships/hyperlink" Target="http://www.eric.ed.gov/ERICWebPortal/search/simpleSearch.jsp?_pageLabel=ERICSearchResult&amp;_urlType=action&amp;newSearch=true&amp;ERICExtSearch_SearchType_0=au&amp;ERICExtSearch_SearchValue_0=%22Prusak+Kevin+A.%22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Eat Healthy &amp; Exercise to Stay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Fit for Lif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07340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Barab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SE 7201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9" descr="fitforlife2"/>
          <p:cNvPicPr/>
          <p:nvPr/>
        </p:nvPicPr>
        <p:blipFill>
          <a:blip r:embed="rId1"/>
          <a:stretch/>
        </p:blipFill>
        <p:spPr>
          <a:xfrm>
            <a:off x="1765440" y="1828800"/>
            <a:ext cx="53276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tement of the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hildren suffer from a lack of self esteem and this effects their ability to excel in sports &amp; exercise. </a:t>
            </a:r>
            <a:r>
              <a:rPr b="0" lang="en-US" sz="1400" spc="-1" strike="noStrike">
                <a:solidFill>
                  <a:srgbClr val="ffffff"/>
                </a:solidFill>
                <a:latin typeface="Abadi MT Condensed Extra Bold"/>
              </a:rPr>
              <a:t>(Glazebrook, Batty, Mullan, MacDonald, Nathan, Sayal, Smyth &amp; Yang, 201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e children face a future of ill health because of poor eating and exercise habits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atson, Baranowski, Thompson, 2012) and (Gruber, &amp; Halderman, 200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tement of the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growing body of evidence that suggests a link between lack of physically activity and poor academic success.</a:t>
            </a:r>
            <a:r>
              <a:rPr b="0" lang="en-US" sz="3200" spc="-1" strike="noStrike">
                <a:solidFill>
                  <a:srgbClr val="1f1f1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badi MT Condensed Extra Bold"/>
              </a:rPr>
              <a:t>("Presidential youth fitness," 2012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iew of the Liter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body hates gym!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why?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raser, Sampson, Pennington, &amp; Prusak, 201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TNESSGRAM - the Solution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idential youth fitness,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4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2) and (Graser, et al. 201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611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iew of the Liter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K (Steps to Active kids)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Glazebrook, et al. 201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hysical Education program targeting insecure or unhealthy children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lazebrook, et al 201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oal- build their self-confidence to exercise so students will enjoy staying fit for lif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943600" y="5181480"/>
            <a:ext cx="25779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iew of the Liter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ise is good for your mind and your hear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ing fit through exercise and cardio fitness prevents heart attacks and strokes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Thijssen, Cable, &amp; Green, 201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ising strengthens the executive functioning portion of the brain. </a:t>
            </a:r>
            <a:r>
              <a:rPr b="0" lang="en-US" sz="1600" spc="-1" strike="noStrike">
                <a:solidFill>
                  <a:srgbClr val="ffffff"/>
                </a:solidFill>
                <a:latin typeface="Abadi MT Condensed Extra Bold"/>
              </a:rPr>
              <a:t>(Tomporowski, Davis, Miller, Nagliericite, 200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05120" y="41911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465280" y="407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iew of the liter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16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Plate.gov -created by Michele Obama in 2010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 brief history of USDA good guides,</a:t>
            </a:r>
            <a:r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2011.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ing students eating habits is always a challenge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Gruber, &amp; Halderman, 2009), and (Watson, et al. 2012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 is only one factor to dictate a persons health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Monyeki, Neetens, Moss &amp; Twisk, 2012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5713560" y="1676520"/>
          <a:ext cx="68594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3560" y="1676520"/>
                    <a:ext cx="6859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4038480" cy="3672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5105520" y="52578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trition </a:t>
            </a:r>
            <a:r>
              <a:rPr b="0" lang="en-US" sz="1800" spc="-1" strike="noStrike" u="sng">
                <a:solidFill>
                  <a:srgbClr val="faa700"/>
                </a:solidFill>
                <a:uFillTx/>
                <a:latin typeface="Arial"/>
                <a:hlinkClick r:id="rId4"/>
              </a:rPr>
              <a:t>Plate </a:t>
            </a:r>
            <a:r>
              <a:rPr b="0" lang="en-US" sz="1800" spc="-1" strike="noStrike" u="sng">
                <a:solidFill>
                  <a:srgbClr val="faa700"/>
                </a:solidFill>
                <a:uFillTx/>
                <a:latin typeface="Arial"/>
                <a:hlinkClick r:id="rId5"/>
              </a:rPr>
              <a:t>Unveiled, Replacing Food </a:t>
            </a:r>
            <a:r>
              <a:rPr b="0" lang="en-US" sz="1800" spc="-1" strike="noStrike" u="sng">
                <a:solidFill>
                  <a:srgbClr val="faa700"/>
                </a:solidFill>
                <a:uFillTx/>
                <a:latin typeface="Arial"/>
                <a:hlinkClick r:id="rId6"/>
              </a:rPr>
              <a:t>Pyram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earch Hypothe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9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ject will implement a nutritional program based on MyPlate and exercise strategies using the FITNESSGRAM. The student body will be fifty fifth graders. We will meet three times a week for morning classes that last forty-five minutes over a ten week period. The setting will be in P.S. X, an urban school in Brooklyn NY. The goal is to teach the students how to achieve a  healthy life-style and become fit for life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 brief history, 201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ferenc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brief history of usda food guide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(2011). Retrieved from http://www.choosemyplate.gov/food-groups/downloads/MyPlate/ABriefHistoryOfUSDAFoodGuides.pd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lazebrook, C., Batty, M., Mullan, N., MacDonald, I., Nathan, D., Sayal, K., Smyth, A., Yang, M., Boliang, G. &amp; Hollis, C. (2011). Evaluating the effectiveness of a schools-based programme to promote exercise self-efficacy in children and young people with risk factors for obesity: Steps to active kids (stak).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ioMedCentral Public Health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830), doi: 10.1186/1471-2458-11-8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aser, S. </a:t>
            </a:r>
            <a:r>
              <a:rPr b="0" lang="en-US" sz="1000" spc="-1" strike="noStrike" u="sng">
                <a:solidFill>
                  <a:srgbClr val="faa700"/>
                </a:solidFill>
                <a:uFillTx/>
                <a:latin typeface="Times New Roman"/>
                <a:hlinkClick r:id="rId1"/>
              </a:rPr>
              <a:t>Sampson, B.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000" spc="-1" strike="noStrike" u="sng">
                <a:solidFill>
                  <a:srgbClr val="faa700"/>
                </a:solidFill>
                <a:uFillTx/>
                <a:latin typeface="Times New Roman"/>
                <a:hlinkClick r:id="rId2"/>
              </a:rPr>
              <a:t>Pennington, T.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000" spc="-1" strike="noStrike" u="sng">
                <a:solidFill>
                  <a:srgbClr val="faa700"/>
                </a:solidFill>
                <a:uFillTx/>
                <a:latin typeface="Times New Roman"/>
                <a:hlinkClick r:id="rId3"/>
              </a:rPr>
              <a:t>Prusak, K.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(2011). Children's Perceptions of Fitness Self-Testing, the Purpose of Fitness Testing, and Personal Health. Physical Educator.  v68 n4 p175-18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uber, K. &amp; Halderman, L.(2009). Using the Family to Combat Childhood and Adult   Obesity. Preventive Chronic Disease. 6(3):A106. http://www.cdc.gov/pcd/issues/2009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onyeki, M., Neetens, R., Moss, S., &amp; Twisk, J. (2012). The relationship between body composition and physical fitness in 14 year old adolescents residing within the tlokwe local municipality, south africa: The pahl study.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ioMedicalCenter Public Health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374), doi: :10.1186/1471-2458-12-37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10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euman, W. (2011, 05 02). Nutrition plate unveiled, replacing food pyramid.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New York Time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Retrieved from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ytimes.com/2011/06/03/business/03plate.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10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residential youth fitness program adopts the FITNESSGRAM assessment; new fitness program teaches skills for lifelong physical activity. (2012, 09 11). PRWe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ijssen, D., Cable, N., &amp; Green, D. (2012). Impact of exercise training on arterial wall thickness in humans.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 national library of medicine national institutes of health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Pt7), 311–322. doi: 10.1042/CS201104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10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omporowski, P. Davis, C. Miller, P. Nagliericite, J. (2008). Exercise and children</a:t>
            </a:r>
            <a:r>
              <a:rPr b="0" lang="ja-JP" sz="1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 intelligence, cognition, and academic achievement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Educ Psychol Rev. 2008 June 1. 20(2): 111–131. doi: 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10.1007/s10648-007-9057-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13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atson, K. Baranowski, T. Thompson, D. (2012). Item response modeling: an     evaluation of the children's fruit and vegetable self-efficacy questionnaire. Health Education Research. 21(1); i47-i57. http://www.ars.usda.gov/research/publications/publications.htm?seq_no_115=20494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6:37:04Z</dcterms:created>
  <dc:creator>Norman</dc:creator>
  <dc:description/>
  <dc:language>en-US</dc:language>
  <cp:lastModifiedBy>student</cp:lastModifiedBy>
  <dcterms:modified xsi:type="dcterms:W3CDTF">2012-10-23T22:06:55Z</dcterms:modified>
  <cp:revision>10</cp:revision>
  <dc:subject/>
  <dc:title>Eat Healthy &amp; Exercise to stay  Fit for Life</dc:title>
</cp:coreProperties>
</file>